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A95-43C5-4A1D-81F6-68D3CEFF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C28-1E06-45B8-8755-436E9F71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344-CDEE-472B-8EA5-834AF1D7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CF42-D53F-4464-B157-DA001570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A3A-DA82-4C08-BE01-650A833A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CE9-FF00-4814-978F-05FD5947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DCA7-E5D3-4871-ACF0-649F086D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E630-E479-4367-9996-B9776B07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657-A63C-43AE-A43B-1342D9B5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487-599C-498C-B838-F883BEDB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7E6C-E503-47BD-9857-BDF10051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9AB-7035-4FFB-8E90-58722752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3170-C6D0-4249-AAE6-ADF14322E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Measur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22093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ichael T. Rapp, MD, JD, FAC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rector, Quality Measurement &amp; Health Assessment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ffice of Clinical Standards an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Karen Milg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rector, Office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C4F2-4C54-47A5-8338-D6E17E0CF6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Using and Combining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 measures are not equal. Combinations could be flexible.  For example, well-accepted measures affecting larger numbers of beneficiaries could get more weight tha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chanism for creating composi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warding both attainment of set threshold of performance and improvement on mea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teraction between quality and resource use mea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ing at different levels of accoun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B7C-0968-4284-A9E2-910DA5F0BF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ich quality and resource use measures best achieve the stated go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hould the Plan focus solely on individual practices, or is there a way to broaden account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strategies for measurement best address the technical challenges invol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iven current and potential data sources, which measures and level of accountability would be most effe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f combinations of measures are used, should they be equally weighted?  If not, which should receive more or less we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9C57-0739-440B-9ED0-80552CCAC9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4413-401B-4775-B411-AA1D0BCA44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echnic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Ke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oice of Quality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oice of Resource Us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nit of Measurement and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mbining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F42D-FA4B-4C52-A83D-D209F10CA8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 key dimensions of quality, with attention to outcomes, cost of care, patient experience, care coordination, prevention, and adoption and use of 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commodate the continued evolution and incorporation of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ign measures across providers and settings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just measurement data for fairness, where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4AA1-AC6F-4505-83C1-D82C8B70C0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orporate quality and resource use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uild on current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alance the precision of a measure with the manner in which it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courage coordination with other providers to the extent fea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eek to align Medicare efforts with other p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019-F45C-4125-B5F2-57EA382CF4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Sour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bundant data, but limited scope at physician practice level and attribution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ugmented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road scope of measures and self-at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enefits of augmented claims plus captur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H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linical, primary source data; EHR use g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Collec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bined Data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758-E276-48B4-BFE6-92BCCF009C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Technical Challen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nchmarking/Pe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isk-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utliers (resource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fessionals and CMS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9734-9413-4578-83EE-EFA075C24D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Quality Meas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linical proces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utcomes, including intermediate, such as HgbA1c levels, and longer term, such as potentially avoidable admi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tructural, such as EHR use and e-prescrib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tient perception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38EB-74C1-4CF9-8BB9-0CDB71390A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esource Use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ossible lev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ervice specific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er cap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pis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uld be used in combination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25F3-F2B4-4E83-854E-229B513345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Accountable Entity and Unit of Measur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dividual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roup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countable care entit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mbination?  For example, re-admissions at the system level and PQRI for individual physicia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04A3-BBA5-4303-B39B-49A050463B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9:45:04Z</dcterms:created>
  <dc:creator>CMS</dc:creator>
  <dc:description/>
  <dc:language>en-US</dc:language>
  <cp:lastModifiedBy>CMS</cp:lastModifiedBy>
  <dcterms:modified xsi:type="dcterms:W3CDTF">2008-12-08T15:39:29Z</dcterms:modified>
  <cp:revision>14</cp:revision>
  <dc:subject/>
  <dc:title>Measur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42570744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</Properties>
</file>